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BBCD-9089-4ED0-9F4B-519112458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62120" y="484020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B04D-1846-45B0-813E-72A94D91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059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8105-3A95-4AE2-A15B-DD3FE2776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6420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6628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76212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6420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6628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B549-0663-48AB-9932-17EB13626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9130F-813A-478B-B5C3-827CF8B33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47BB-4D71-4393-9CFF-E85A80A6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10DA-EB68-447F-9C69-C5939DFC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BE24-534D-414A-80A1-BF8D1480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5B6C-B2D9-422D-B1CC-E41DBEC6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769608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900A-6153-4E50-8892-75EE0916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A370A-5D3A-47DE-B3B3-06F6A3DF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532B-C987-48EC-B48D-CAA1689D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059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842A-D50A-4E84-9014-3427C0B4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C309-9521-4F6B-B63A-9CAE3D56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762120" y="484020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13AD6-A7DD-495F-9BC1-4D40133A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059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D866-6B49-4138-ADB2-FF524BEAE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6420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6628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76212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6420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6628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B773-13F6-42FD-AA37-4DFD38E94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E2A2-88BD-426E-A630-C0AA58D9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E778-3DDF-4D9F-910E-C64B4121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28FE-7367-4E63-ADF0-E38294A2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769608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8431-943F-461A-911A-817B6265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37C8-181B-4846-A499-A2DEA7EE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059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D0AA-93F3-451E-84E6-1ADBD97E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C238-EFD0-4C35-8ABE-BF980072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E6FC-1C56-4603-B6D6-D6C4BF9C51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EFEC-C615-4F29-BA87-F7F503223E7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0000"/>
                </a:solidFill>
                <a:latin typeface="Times New Roman"/>
              </a:rPr>
              <a:t>Последствия мирового финансового кризиса для российского бизнеса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4221000"/>
            <a:ext cx="7696080" cy="16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тр Па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чальник отдела прямых инвести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ОО «Инвестиционная палат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investpalata.r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3999-5CFE-41B0-B342-3D64E4A48DF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7.01.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Будущие проблем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1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альнейшее списание «плохих» активов (пик ещё не пройден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investpalata.r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45A0-85AD-41C8-BA4C-7FF95427410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01.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Отличие от кризиса 1998 год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троенность России в мировую экономик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нешние заимствования частных компаний выросли в 2005-2007 годах с 108 до 417 млрд. дол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investpalata.r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43A3-24FE-4D85-B42E-D9AF1B0CA75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01.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Влияние на Россию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ток капита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зменение баланса экспорта-импор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нижение цен на сырьё и проблемы экспортёр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нижение спро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ризис довер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investpalata.r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DA36-9D64-4654-9C45-D1998FBA2EC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01.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Отток капитал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шли портфельные и кредитные деньг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редитное сжат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ток капитала в 4ом квартале 2008 года – 130 млрд. до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investpalata.r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936A-90FC-47E7-ADF8-B8D71D30F8F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01.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Влияние на Россию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ток капита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зменение баланса экспорта-импор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нижение цен на сырьё и проблемы экспортёр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нижение спро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ризис довер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investpalata.r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D289-584D-46AE-A55B-90294C9669D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01.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Изменение баланса экспорта/импорта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27" name="temp" descr=""/>
          <p:cNvPicPr/>
          <p:nvPr/>
        </p:nvPicPr>
        <p:blipFill>
          <a:blip r:embed="rId1"/>
          <a:stretch/>
        </p:blipFill>
        <p:spPr>
          <a:xfrm>
            <a:off x="1550880" y="2432160"/>
            <a:ext cx="9720" cy="28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541520" y="2422440"/>
            <a:ext cx="369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68360" y="1989000"/>
          <a:ext cx="8207280" cy="3888000"/>
        </p:xfrm>
        <a:graphic>
          <a:graphicData uri="http://schemas.openxmlformats.org/drawingml/2006/table">
            <a:tbl>
              <a:tblPr/>
              <a:tblGrid>
                <a:gridCol w="2879640"/>
                <a:gridCol w="1295280"/>
                <a:gridCol w="1584360"/>
                <a:gridCol w="1297080"/>
                <a:gridCol w="1150920"/>
              </a:tblGrid>
              <a:tr h="105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кварт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 кварт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 кварт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кв (оценк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471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чет текущих опера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 4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7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0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471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овый балан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 9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 5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 9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2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47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о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 1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 6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 8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 3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ырая неф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 6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 0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 7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0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471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ный га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9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1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1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6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471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по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0 1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75 1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3 9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73 2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investpalata.r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14E6-45A7-47C6-91D4-7EF726F4985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01.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Девальвация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21844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менение курсов валют экспорто-ориентированных  стран по отношению к доллару США за год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900000" y="2997360"/>
          <a:ext cx="7785720" cy="3132720"/>
        </p:xfrm>
        <a:graphic>
          <a:graphicData uri="http://schemas.openxmlformats.org/drawingml/2006/table">
            <a:tbl>
              <a:tblPr/>
              <a:tblGrid>
                <a:gridCol w="6138360"/>
                <a:gridCol w="1647360"/>
              </a:tblGrid>
              <a:tr h="522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оссийский руб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встралийский долл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разильский ре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илийский пес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орвежская к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Южноафриканский рэн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investpalata.r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43CA-0D94-497E-8B2A-2B9A94CEFBA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01.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Влияние на Россию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ток капита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зменение баланса экспорта-импор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нижение цен на сырьё и проблемы экспортёр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нижение спро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ризис довер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investpalata.r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F768-3F59-4FB2-9737-5FEAF25B858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01.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Снижение цен на сырьё и проблемы экспортёров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нижение доходов бюджета (налоги, пошлины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ост безработиц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investpalata.r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E69F-B7C3-4B01-9E1F-9CB302A6BE8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01.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Влияние на Россию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ток капита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зменение баланса экспорта-импор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нижение цен на сырьё и проблемы экспортёр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нижение спро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ризис довер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investpalata.r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248C-512E-4332-A9D2-C88EC0B527C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01.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Инвестиционная палат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жрегиональный холдинг в ЦФО и ЮФ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ктивы под управлением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ронежский завод ЖБ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ронежпроект и 6 проектных институ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ловский социальный бан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ятельность на рынке ценных бума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investpalata.r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7026-307E-4372-816C-941DF0049D6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01.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Проблемы банков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Набеги вкладчиков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рытие доступа к межбанку и западным деньга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Плохие кредиты» (стоимость долг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оимость активов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вальв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есценивание ценных бума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investpalata.r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9582-D722-4A34-AA69-60423AC16EF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01.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Последствия проблем банковской отрасли для бизнеса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«Удорожание» денег (изменение соотношения деньги-активы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меньшение их количества (снижение и закрытие лимитов, формирование резервов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Закрытие кредитных ли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investpalata.r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F677-DBF5-4038-9A53-79A8E674E67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01.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Проблемные отрасл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оительст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итей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льское хозяйст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шиностро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луги для бизнеса, В2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investpalata.r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735D-AEE6-46AF-8BB0-DE08610046F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01.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Строительство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ет ипоте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ет «инвестиционных» покупател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ет кредитования строител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озможные скандалы с обманутыми дольщик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investpalata.r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52E2-2A14-4587-9FA1-62E08413996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01.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ельское хозяйство и ритейл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екордный урожай, низкие цены и прибыль 20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редитное сжат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озможные проблемы с посевн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лабый урожай и высокие цены 20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аленькая марж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висимость от бан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еплатеж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зменение ассортимента в сторону низшего ценового сегмен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investpalata.r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A556-72EF-45C3-9490-E89CBC57E5C0}" type="slidenum">
              <a:t>2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01.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Машиностроение и В2В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изкая марж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вышение ставок по кредит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становка новых инвестиционных проектов у заказчи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екла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омпьюте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investpalata.r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1489-7FE0-4459-8751-F860FB07355C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01.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«Тихая гавань»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1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Государств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портозамещ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ижний ценовой сегмен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investpalata.r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E876-78AA-49CB-B9EC-8EA9DA34760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01.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Способ выйти из кризис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investpalata.r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A6BF-E0D4-4656-92CD-F2388BD550F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01.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Главная ошибк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жидание скорого окончания кризи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жидайте лучшего, готовьтесь к худшем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investpalata.r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0DE8-09BB-49CE-9150-8C81D7A2798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01.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Мир после кризис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иление роли государ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иление влияния развивающихся стран (через новые мировые институты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0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ти-глобализация, закрытие грани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ругие уровни цен на актив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investpalata.r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76EE-DE39-41EA-AA6C-C93BF12650F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01.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Причины мирового финансового кризиса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збыток ликвидности в экономике СШ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едостатки регулир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«Пузыри» на рынках недвижимости, акций и сырь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investpalata.r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E833-4E69-4230-9F04-14A89A071B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01.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Возможност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нижение затрат (налоги, аренда, з/п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вышение конкурентоспособности по сравнению с импорт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овые возможности для бизнеса, передел рынка (консолидация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investpalata.r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EAD2-D184-4DB4-81C7-23A8E10F79B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01.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Источники финансирования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ударственные бан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астные бан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акторинг, лизин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ямые инвестиции (Инвестпалата, Москва, «денежные мешки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нчурные инвести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investpalata.r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93AB-954C-49FF-985C-F046A0F2B51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01.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Не бывает безвыходных ситуаций!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95280" y="1847880"/>
            <a:ext cx="8424720" cy="4173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investpalata.r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0979-A16A-4EE6-BE55-837892129E88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01.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Петр Панов</a:t>
            </a:r>
            <a:br>
              <a:rPr sz="3200"/>
            </a:b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Начальник отдела прямых инвестиций</a:t>
            </a:r>
            <a:br>
              <a:rPr sz="3200"/>
            </a:b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ООО «Инвестиционная палата»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ОО «Инвестиционная палат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ронеж, ул. Пушкинская, д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вестиционный департамент. Тел. 550-75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@investpalata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investpalata.r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2F25-38E8-4943-ACD5-FCEEC669CA9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7.01.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адение индекса Доу с 2001 год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6572160" cy="380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investpalata.r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12E2-1629-4533-9565-1FAE46A2B22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01.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Изменение цен на недвижимость в США с 2000 года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68360" y="1916280"/>
          <a:ext cx="8064360" cy="41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916280"/>
                    <a:ext cx="806436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investpalata.r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2E8D-FC56-4902-A081-651316EB1B5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01.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Рост безработицы в СШ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5280" y="2000160"/>
            <a:ext cx="8280360" cy="402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investpalata.r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DB51-2A9D-49F5-A630-73EDF55C79A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01.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Разрешения на строительство новых домов в США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344600" y="1828800"/>
          <a:ext cx="6453360" cy="430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4600" y="1828800"/>
                    <a:ext cx="6453360" cy="43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investpalata.r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4895-C1E6-4132-9646-B203DE0E558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01.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График цены на нефть с 2001 года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6572160" cy="380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investpalata.r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EDE2-FCC2-4C66-A07A-E739ADA9A52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01.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Изменение цен на медь с 2004 года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476360" y="2060640"/>
            <a:ext cx="6000840" cy="380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investpalata.r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2964-645D-4A1D-A390-43B36E6F945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01.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4:09:10Z</dcterms:created>
  <dc:creator>p.panov</dc:creator>
  <dc:description/>
  <dc:language>en-US</dc:language>
  <cp:lastModifiedBy>p.panov</cp:lastModifiedBy>
  <dcterms:modified xsi:type="dcterms:W3CDTF">2009-01-27T09:02:48Z</dcterms:modified>
  <cp:revision>11</cp:revision>
  <dc:subject/>
  <dc:title>Слайд 1</dc:title>
</cp:coreProperties>
</file>